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6.png" ContentType="image/png"/>
  <Override PartName="/ppt/media/image24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media/image3.jpeg" ContentType="image/jpeg"/>
  <Override PartName="/ppt/media/image15.png" ContentType="image/pn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112-CBC8-46CF-B15D-93DD5D67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226-91E3-47B4-AE8B-47CB5F5E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4CB-D3B3-4465-92CD-F404F431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AB2-C45D-4E11-AE4E-CF2AF412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800-20A6-4665-B1E0-F0E05B92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E23C-5837-49C8-913F-CA6F27BC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6C7-3CE0-45EA-9223-74A2AED6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2E0-E3BB-4C3E-ADA4-69CCA71B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39D-9C51-44D8-AFDD-A5E4C3D7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5A5-F038-4CAD-B139-AE36376B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5E0-00C6-4D86-B4CA-57337AB3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D7B-1C08-4DB1-BD4B-D9139D2F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4C00-3634-4275-BE41-BCC75F140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Power point about 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By, Mackenzie Shul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05320" y="4724280"/>
            <a:ext cx="18763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My hou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My House Is K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23880" y="2743200"/>
            <a:ext cx="6172200" cy="383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629400" y="380880"/>
            <a:ext cx="1828800" cy="1832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90720" y="3200400"/>
            <a:ext cx="1755720" cy="1860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867280" y="2743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85800" y="4038480"/>
            <a:ext cx="1812960" cy="174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6172200" y="4267080"/>
            <a:ext cx="1558800" cy="1784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162920" y="5791320"/>
            <a:ext cx="53316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friend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 Awesome!</a:t>
            </a:r>
            <a:r>
              <a:rPr b="0" lang="en-US" sz="32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76760" y="2527200"/>
            <a:ext cx="3538440" cy="3187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1841760" cy="1876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178760" y="0"/>
            <a:ext cx="150804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419720" y="3124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My schoo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 Ultra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Ultra Bold Condensed"/>
              </a:rPr>
              <a:t>Cedar Grove Belgium School! Go Rocke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297180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My lif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urlz MT"/>
              </a:rPr>
              <a:t>Is Koo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343640" y="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668760" y="2538360"/>
            <a:ext cx="1806480" cy="177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553080" y="4800600"/>
            <a:ext cx="1841760" cy="1101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914400" y="2514600"/>
            <a:ext cx="1841400" cy="1584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886200" y="5029200"/>
            <a:ext cx="1219320" cy="1089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447920" y="4419720"/>
            <a:ext cx="1866960" cy="1155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5181480" y="990720"/>
            <a:ext cx="1778040" cy="1319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6400800" y="2514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20:54Z</dcterms:created>
  <dc:creator>CGB</dc:creator>
  <dc:description/>
  <dc:language>en-US</dc:language>
  <cp:lastModifiedBy>CGB</cp:lastModifiedBy>
  <dcterms:modified xsi:type="dcterms:W3CDTF">2008-06-04T14:01:03Z</dcterms:modified>
  <cp:revision>7</cp:revision>
  <dc:subject/>
  <dc:title>Power point about me!</dc:title>
</cp:coreProperties>
</file>